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CE5D-DA67-4DB6-90C7-6E3BD83E0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36D8-65D8-49C5-BF25-AE3EC8007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D4B5-CF79-4C50-AA76-A391E7F80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ACBA-44E6-4E1B-9248-886110ED5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10C9-51C2-4CEF-89C9-E85C6B335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9DCB-0097-4431-9583-4D3ECACB7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E3D9-9A24-418A-BBE9-8831E0A17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BBAF-238E-45E6-A553-A67557492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C827-D003-4C6B-B7FE-949777B9E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CCAE-2D4B-4555-B43C-BE1978A42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B027-43C9-4F9B-A8B8-C668618F5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E920-75D9-49A4-AC61-568DCC11E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91592-D397-480E-BE09-F022E96788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ase Against Edu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. Bryan Capla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artment of Economic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Mercatus Cent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Mason Univers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aplan@gmu.e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ducation: Immortal Belov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” is one of the Holy Trinity that everyone is supposed to want more and better of (other two: health care and the environment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’s also a rare example of an issue where economists and the public agree that we’re not “investing” enough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return to education estimates are pretty high.  Economists assume this proves that education “builds human capital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e of return estimates don’t even count the positive externalities that economists think that education has to hav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ig Puzz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you actually experience education, though, it’s hard not to notice that most classes teach no job skill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fraction of U.S. jobs ever use knowledge of history, higher mathematics, music, art, Shakespeare, or foreign languages?  Latin?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es this have to do with real life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eems awfully strange: Employers pay a large premium to people who study subjects unrelated to their wor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ignaling Expla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explain these facts, however, using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el of edu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idea: Much schooling doesn’t raise productivity; it’s just hoop-jumping to show off your IQ, work ethic, and conform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 assumption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) differences are hard to obser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) differences correlate with the cost of an observable activity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3) higher productivity workers have lower costs of performing observable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signaling models, the market rewards people who “show their stuff” even if the display itself is wastefu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Signaling Mat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auty of the signaling model: It works even if students, workers, and employers don’t understand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cares?  Signaling models imply that education actually ha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ega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xternalities.  These can balance out any positive externalities, or even imply that government is subsidizing was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’s Wrong With Edu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: Who cares if education builds human capital or just signals it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: Signaling models imply that education actually ha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ega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xternalitie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rt analo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negative externalities can balance out any positive externalities, or even imply that government is subsidizing was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return versus private retur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: Signaling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“education bubbl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ons Answe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aling models are widely dismissed on a priori gr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’d just do IQ tests instead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ployers know true productivity after a few months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has to be a cheaper way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ing how to learn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acter formation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aling explains some otherwise very puzzling facts, and the a priori objections only apply to the most simple-minded versions of the the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rhetorically easier for libertarians to join the pro-education chorus, then insist that the free market will give us more and better education.  But the truth is more complicat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17:46:25Z</dcterms:created>
  <dc:creator>bcaplan</dc:creator>
  <dc:description/>
  <dc:language>en-US</dc:language>
  <cp:lastModifiedBy>bcaplan</cp:lastModifiedBy>
  <dcterms:modified xsi:type="dcterms:W3CDTF">2011-04-28T17:59:34Z</dcterms:modified>
  <cp:revision>2</cp:revision>
  <dc:subject/>
  <dc:title>The Case Against Education</dc:title>
</cp:coreProperties>
</file>