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9C3-6030-4DB9-A66B-CEF840B4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42B-7882-497C-B6FE-22010812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400-F270-4608-9488-BA948C8D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486-AEE7-4B78-B560-CEC7C8DE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AA9-6ABB-491E-B257-D2068F4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1C9-FD23-400D-9154-425CE1B6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700-8CFE-4728-A73A-98D26721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50D-FC9A-4902-AF69-B18FB419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057-B395-4B9C-98B5-127BEDA3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024-E25C-48BF-B04F-E146BEF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C54-7022-475D-A05C-73583E2B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1F5-8AA4-4BA8-A194-ADB01D8E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1000-CB01-46FA-8ABB-6AB303374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Against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Bryan Capl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Economic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ercatus C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Mason Univer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aplan@gm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: Immortal Bel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” is one of the Holy Trinity that everyone is supposed to want more and better of (other two: health care and the environment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lso a rare example of an issue where economists and the public agree that we’re not “investing” enough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return to education estimates are pretty high.  Economists assume this proves that education “builds human capita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return estimates don’t even count the positive externalities that economists think that education has to h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uzz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actually experience education, though, it’s hard not to notice that most classes teach no job skil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raction of U.S. jobs ever use knowledge of history, higher mathematics, music, art, Shakespeare, or foreign languages?  Latin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have to do with real lif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ems awfully strange: Employers pay a large premium to people who study subjects unrelated to their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gnaling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explain these facts, however,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 of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: Much schooling doesn’t raise productivity; it’s just hoop-jumping to show off your IQ, work ethic, and conform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assump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differences are hard to ob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differences correlate with the cost of an observable activit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higher productivity workers have lower costs of performing observabl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ignaling models, the market rewards people who “show their stuff” even if the display itself is waste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ignaling Ma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y of the signaling model: It works even if students, workers, and employers don’t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res?  Signaling models imply that education actually h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ernalities.  These can balance out any positive externalities, or even imply that government is subsidizing was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 Wit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Who cares if education builds human capital or just signals i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Signaling models imply that education actually h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ternalit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t ana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negative externalities can balance out any positive externalities, or even imply that government is subsidizing w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turn versus private re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Signal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education bubbl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ons Answ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models are widely dismissed on a priori gr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’d just do IQ tests instea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rs know true productivity after a few month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has to be a cheaper wa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how to lear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form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explains some otherwise very puzzling facts, and the a priori objections only apply to the most simple-minded versions of the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rhetorically easier for libertarians to join the pro-education chorus, then insist that the free market will give us more and better education.  But the truth is more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7:46:25Z</dcterms:created>
  <dc:creator>bcaplan</dc:creator>
  <dc:description/>
  <dc:language>en-US</dc:language>
  <cp:lastModifiedBy>bcaplan</cp:lastModifiedBy>
  <dcterms:modified xsi:type="dcterms:W3CDTF">2011-04-28T17:59:34Z</dcterms:modified>
  <cp:revision>2</cp:revision>
  <dc:subject/>
  <dc:title>The Case Against Education</dc:title>
</cp:coreProperties>
</file>